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1423-1841-4D75-ABD2-C2B398ADF6F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74DC-CF62-49EB-A158-7B3A7ED68AE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C3E8-78F2-4773-9EDB-EE28115EFD2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6F04-51FA-4067-8A5C-EDAE97B8CEC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1505-404B-4645-998A-B753E519625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4685-7268-4EEB-BCFF-4EF3F1F2440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1A77-430A-4673-B746-5607C2CB6C7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7225-4A07-485B-92B9-DCCE645A577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671D-2CA1-46E0-AF06-AE4E72D742D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1042-15F9-4A69-8060-CF49CFD7BC7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5B88-1AB7-45CF-8F60-84CDE7F8986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4929-400F-4444-8D4F-D4FE284534AA}" type="slidenum">
              <a:rPr b="0" lang="ko-K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AAF3-68D7-44C7-8251-953990B6F5E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C396-4180-4DC7-B0BB-4B0B7AB4EAF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539640" y="720720"/>
            <a:ext cx="5761080" cy="43196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灯片编号占位符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0020-4EED-4948-8734-74789B0523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539640" y="720720"/>
            <a:ext cx="5761080" cy="43196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灯片编号占位符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6E92-C748-450D-8003-0A1649C545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5B79-544D-4057-AA27-341D14CE5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4117-5E86-4CBC-83BF-DA701E01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7445-097F-4DF1-B82B-3EC6F9CC2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182E-CCBE-4E53-B65E-764BF555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5240-043B-4971-B0CB-673FD259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EF60-CE8C-49E4-B627-8A3FF9B0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B5E0-91E8-4DF4-AF19-DA11775C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9FCA-7DB4-4A61-8D77-E82D86E0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E512-3D3C-4E26-AF59-D3582B30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6B9F-20BD-4872-87A3-797E4427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EA7D-FEC6-4377-AA0E-882BE7E4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582B-16B7-49CE-9407-6E577F20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1DBA-2700-4C14-804C-CFD94AC5A6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1" descr=""/>
          <p:cNvPicPr/>
          <p:nvPr/>
        </p:nvPicPr>
        <p:blipFill>
          <a:blip r:embed="rId1"/>
          <a:stretch/>
        </p:blipFill>
        <p:spPr>
          <a:xfrm>
            <a:off x="262080" y="0"/>
            <a:ext cx="8619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639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" descr="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13428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1" descr="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13428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2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210520" cy="45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3" descr=""/>
          <p:cNvPicPr/>
          <p:nvPr/>
        </p:nvPicPr>
        <p:blipFill>
          <a:blip r:embed="rId1"/>
          <a:stretch/>
        </p:blipFill>
        <p:spPr>
          <a:xfrm>
            <a:off x="355680" y="506520"/>
            <a:ext cx="8432640" cy="6235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1" descr=""/>
          <p:cNvPicPr/>
          <p:nvPr/>
        </p:nvPicPr>
        <p:blipFill>
          <a:blip r:embed="rId1"/>
          <a:stretch/>
        </p:blipFill>
        <p:spPr>
          <a:xfrm>
            <a:off x="262080" y="0"/>
            <a:ext cx="8619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" descr=""/>
          <p:cNvPicPr/>
          <p:nvPr/>
        </p:nvPicPr>
        <p:blipFill>
          <a:blip r:embed="rId1"/>
          <a:stretch/>
        </p:blipFill>
        <p:spPr>
          <a:xfrm>
            <a:off x="23760" y="1593720"/>
            <a:ext cx="9096480" cy="3670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2" descr=""/>
          <p:cNvPicPr/>
          <p:nvPr/>
        </p:nvPicPr>
        <p:blipFill>
          <a:blip r:embed="rId1"/>
          <a:stretch/>
        </p:blipFill>
        <p:spPr>
          <a:xfrm>
            <a:off x="279360" y="1844640"/>
            <a:ext cx="8585280" cy="233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2" descr=""/>
          <p:cNvPicPr/>
          <p:nvPr/>
        </p:nvPicPr>
        <p:blipFill>
          <a:blip r:embed="rId1"/>
          <a:stretch/>
        </p:blipFill>
        <p:spPr>
          <a:xfrm>
            <a:off x="407880" y="1073160"/>
            <a:ext cx="8328240" cy="471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3" descr=""/>
          <p:cNvPicPr/>
          <p:nvPr/>
        </p:nvPicPr>
        <p:blipFill>
          <a:blip r:embed="rId1"/>
          <a:stretch/>
        </p:blipFill>
        <p:spPr>
          <a:xfrm>
            <a:off x="0" y="774720"/>
            <a:ext cx="9144000" cy="530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" descr="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13431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2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6834240" cy="442584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2" descr=""/>
          <p:cNvPicPr/>
          <p:nvPr/>
        </p:nvPicPr>
        <p:blipFill>
          <a:blip r:embed="rId2"/>
          <a:stretch/>
        </p:blipFill>
        <p:spPr>
          <a:xfrm>
            <a:off x="0" y="5229360"/>
            <a:ext cx="9144000" cy="134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8537040" y="6527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30240" y="228600"/>
            <a:ext cx="38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同理心倾听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athic List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7720" y="660096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ab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12560" y="6524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861840" y="6607080"/>
            <a:ext cx="295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ek First to Understand, Then to Be Understo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9"/>
          <p:cNvSpPr/>
          <p:nvPr/>
        </p:nvSpPr>
        <p:spPr>
          <a:xfrm>
            <a:off x="723960" y="6629400"/>
            <a:ext cx="0" cy="19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1" descr=""/>
          <p:cNvPicPr/>
          <p:nvPr/>
        </p:nvPicPr>
        <p:blipFill>
          <a:blip r:embed="rId1"/>
          <a:stretch/>
        </p:blipFill>
        <p:spPr>
          <a:xfrm>
            <a:off x="407880" y="1069920"/>
            <a:ext cx="8328240" cy="538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8537040" y="6527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930240" y="228600"/>
            <a:ext cx="38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同理心倾听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athic List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7720" y="660096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ab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12560" y="6524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861840" y="6607080"/>
            <a:ext cx="295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ek First to Understand, Then to Be Understo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723960" y="6629400"/>
            <a:ext cx="0" cy="19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2" descr=""/>
          <p:cNvPicPr/>
          <p:nvPr/>
        </p:nvPicPr>
        <p:blipFill>
          <a:blip r:embed="rId1"/>
          <a:stretch/>
        </p:blipFill>
        <p:spPr>
          <a:xfrm>
            <a:off x="36360" y="1236600"/>
            <a:ext cx="9071280" cy="438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2T12:06:56Z</dcterms:created>
  <dc:creator>shentong6903@163.com</dc:creator>
  <dc:description/>
  <dc:language>en-US</dc:language>
  <cp:lastModifiedBy>Joanna</cp:lastModifiedBy>
  <cp:lastPrinted>2017-05-02T00:32:14Z</cp:lastPrinted>
  <dcterms:modified xsi:type="dcterms:W3CDTF">2019-05-16T01:46:35Z</dcterms:modified>
  <cp:revision>1199</cp:revision>
  <dc:subject/>
  <dc:title>幻灯片 1</dc:title>
</cp:coreProperties>
</file>